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9.png" ContentType="image/png"/>
  <Override PartName="/ppt/media/image13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2411-2FFB-4936-8081-02F5C0869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45FB-0B4C-413B-8226-50D5E552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A266-28B4-4F89-9CBA-50D990E96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109D-B289-47BB-B237-EF7D8940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425F-6EE7-4BAD-8AA7-C9B4915D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35E6-4448-4F16-89F0-983860FA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89A9-6CED-4C52-B0E9-7CF170F2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7ABD-A2A4-4896-A50D-1BF0621D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27A7-2637-461B-9B76-036E42B3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62BF-1BD1-4AF1-824F-3D483D1B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4E95-5F38-4628-A06F-6B7E801F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486D-A131-49BA-8738-D5916C71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0284-98C3-4298-B950-34D7D2414D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png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380880"/>
          <a:ext cx="8381880" cy="571500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  <a:gridCol w="2095560"/>
                <a:gridCol w="2095200"/>
              </a:tblGrid>
              <a:tr h="285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" name="Picture 4" descr="C:\Users\Li\AppData\Local\Microsoft\Windows\Temporary Internet Files\Content.IE5\88GB2133\MC900149621[1].wmf"/>
          <p:cNvPicPr/>
          <p:nvPr/>
        </p:nvPicPr>
        <p:blipFill>
          <a:blip r:embed="rId1"/>
          <a:stretch/>
        </p:blipFill>
        <p:spPr>
          <a:xfrm>
            <a:off x="457200" y="1143000"/>
            <a:ext cx="2041560" cy="1143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C:\Users\Li\AppData\Local\Microsoft\Windows\Temporary Internet Files\Content.IE5\94F5MVTZ\MC900334410[1].wmf"/>
          <p:cNvPicPr/>
          <p:nvPr/>
        </p:nvPicPr>
        <p:blipFill>
          <a:blip r:embed="rId2"/>
          <a:stretch/>
        </p:blipFill>
        <p:spPr>
          <a:xfrm>
            <a:off x="2819520" y="1143000"/>
            <a:ext cx="1500120" cy="1238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:\Users\Li\AppData\Local\Microsoft\Windows\Temporary Internet Files\Content.IE5\KSVW99TY\MC900434575[1].wmf"/>
          <p:cNvPicPr/>
          <p:nvPr/>
        </p:nvPicPr>
        <p:blipFill>
          <a:blip r:embed="rId3"/>
          <a:stretch/>
        </p:blipFill>
        <p:spPr>
          <a:xfrm>
            <a:off x="4800600" y="1219320"/>
            <a:ext cx="1763640" cy="990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C:\Users\Li\AppData\Local\Microsoft\Windows\Temporary Internet Files\Content.IE5\88GB2133\MC900013227[1].wmf"/>
          <p:cNvPicPr/>
          <p:nvPr/>
        </p:nvPicPr>
        <p:blipFill>
          <a:blip r:embed="rId4"/>
          <a:stretch/>
        </p:blipFill>
        <p:spPr>
          <a:xfrm>
            <a:off x="7086600" y="914400"/>
            <a:ext cx="1481040" cy="1600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C:\Users\Li\AppData\Local\Microsoft\Windows\Temporary Internet Files\Content.IE5\5G25EHIB\MC900057341[1].wmf"/>
          <p:cNvPicPr/>
          <p:nvPr/>
        </p:nvPicPr>
        <p:blipFill>
          <a:blip r:embed="rId5"/>
          <a:stretch/>
        </p:blipFill>
        <p:spPr>
          <a:xfrm>
            <a:off x="762120" y="3962520"/>
            <a:ext cx="1476360" cy="1218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Users\Li\AppData\Local\Microsoft\Windows\Temporary Internet Files\Content.IE5\94F5MVTZ\MC900002026[1].wmf"/>
          <p:cNvPicPr/>
          <p:nvPr/>
        </p:nvPicPr>
        <p:blipFill>
          <a:blip r:embed="rId6"/>
          <a:stretch/>
        </p:blipFill>
        <p:spPr>
          <a:xfrm>
            <a:off x="2819520" y="3581280"/>
            <a:ext cx="1390680" cy="1600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C:\Users\Li\AppData\Local\Microsoft\Windows\Temporary Internet Files\Content.IE5\88GB2133\MC900057225[1].wmf"/>
          <p:cNvPicPr/>
          <p:nvPr/>
        </p:nvPicPr>
        <p:blipFill>
          <a:blip r:embed="rId7"/>
          <a:stretch/>
        </p:blipFill>
        <p:spPr>
          <a:xfrm>
            <a:off x="4800600" y="3809880"/>
            <a:ext cx="1781280" cy="1460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C:\Users\Li\AppData\Local\Microsoft\Windows\Temporary Internet Files\Content.IE5\94F5MVTZ\MC900436378[1].png"/>
          <p:cNvPicPr/>
          <p:nvPr/>
        </p:nvPicPr>
        <p:blipFill>
          <a:blip r:embed="rId8"/>
          <a:stretch/>
        </p:blipFill>
        <p:spPr>
          <a:xfrm>
            <a:off x="7086600" y="3886200"/>
            <a:ext cx="14097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57200" y="380880"/>
          <a:ext cx="8381880" cy="571500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  <a:gridCol w="2095560"/>
                <a:gridCol w="2095200"/>
              </a:tblGrid>
              <a:tr h="285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Picture 2" descr="C:\Users\Li\AppData\Local\Microsoft\Windows\Temporary Internet Files\Content.IE5\KSVW99TY\MC900434841[1].png"/>
          <p:cNvPicPr/>
          <p:nvPr/>
        </p:nvPicPr>
        <p:blipFill>
          <a:blip r:embed="rId1"/>
          <a:stretch/>
        </p:blipFill>
        <p:spPr>
          <a:xfrm>
            <a:off x="762120" y="685800"/>
            <a:ext cx="1600200" cy="1919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Users\Li\AppData\Local\Microsoft\Windows\Temporary Internet Files\Content.IE5\KSVW99TY\MP900399620[1].jpg"/>
          <p:cNvPicPr/>
          <p:nvPr/>
        </p:nvPicPr>
        <p:blipFill>
          <a:blip r:embed="rId2"/>
          <a:stretch/>
        </p:blipFill>
        <p:spPr>
          <a:xfrm>
            <a:off x="2781360" y="990720"/>
            <a:ext cx="1684440" cy="1347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C:\Users\Li\AppData\Local\Microsoft\Windows\Temporary Internet Files\Content.IE5\94F5MVTZ\MC900140581[1].wmf"/>
          <p:cNvPicPr/>
          <p:nvPr/>
        </p:nvPicPr>
        <p:blipFill>
          <a:blip r:embed="rId3"/>
          <a:stretch/>
        </p:blipFill>
        <p:spPr>
          <a:xfrm>
            <a:off x="4800600" y="990720"/>
            <a:ext cx="1824120" cy="1368360"/>
          </a:xfrm>
          <a:prstGeom prst="rect">
            <a:avLst/>
          </a:prstGeom>
          <a:ln w="0">
            <a:noFill/>
          </a:ln>
        </p:spPr>
      </p:pic>
      <p:sp>
        <p:nvSpPr>
          <p:cNvPr id="54" name="Right Arrow 20"/>
          <p:cNvSpPr/>
          <p:nvPr/>
        </p:nvSpPr>
        <p:spPr>
          <a:xfrm rot="4593000">
            <a:off x="4660920" y="143136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0" descr="C:\Users\Li\AppData\Local\Microsoft\Windows\Temporary Internet Files\Content.IE5\88GB2133\MC900287467[1].wmf"/>
          <p:cNvPicPr/>
          <p:nvPr/>
        </p:nvPicPr>
        <p:blipFill>
          <a:blip r:embed="rId4"/>
          <a:stretch/>
        </p:blipFill>
        <p:spPr>
          <a:xfrm>
            <a:off x="7010280" y="533520"/>
            <a:ext cx="1416240" cy="1765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C:\Users\Li\AppData\Local\Microsoft\Windows\Temporary Internet Files\Content.IE5\KSVW99TY\MC900433912[1].png"/>
          <p:cNvPicPr/>
          <p:nvPr/>
        </p:nvPicPr>
        <p:blipFill>
          <a:blip r:embed="rId5"/>
          <a:stretch/>
        </p:blipFill>
        <p:spPr>
          <a:xfrm>
            <a:off x="2743200" y="35812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C:\Users\Li\AppData\Local\Microsoft\Windows\Temporary Internet Files\Content.IE5\5G25EHIB\MC900287392[1].wmf"/>
          <p:cNvPicPr/>
          <p:nvPr/>
        </p:nvPicPr>
        <p:blipFill>
          <a:blip r:embed="rId6"/>
          <a:stretch/>
        </p:blipFill>
        <p:spPr>
          <a:xfrm>
            <a:off x="762120" y="3429000"/>
            <a:ext cx="1380960" cy="1606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C:\Users\Li\AppData\Local\Microsoft\Windows\Temporary Internet Files\Content.IE5\5G25EHIB\MC900153984[1].wmf"/>
          <p:cNvPicPr/>
          <p:nvPr/>
        </p:nvPicPr>
        <p:blipFill>
          <a:blip r:embed="rId7"/>
          <a:stretch/>
        </p:blipFill>
        <p:spPr>
          <a:xfrm>
            <a:off x="5257800" y="3352680"/>
            <a:ext cx="1219320" cy="2103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C:\Users\Li\AppData\Local\Microsoft\Windows\Temporary Internet Files\Content.IE5\88GB2133\MC900215685[1].wmf"/>
          <p:cNvPicPr/>
          <p:nvPr/>
        </p:nvPicPr>
        <p:blipFill>
          <a:blip r:embed="rId8"/>
          <a:stretch/>
        </p:blipFill>
        <p:spPr>
          <a:xfrm>
            <a:off x="6781680" y="3581280"/>
            <a:ext cx="191952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04:17:18Z</dcterms:created>
  <dc:creator>Li</dc:creator>
  <dc:description/>
  <dc:language>en-US</dc:language>
  <cp:lastModifiedBy>Li</cp:lastModifiedBy>
  <dcterms:modified xsi:type="dcterms:W3CDTF">2010-12-08T05:03:18Z</dcterms:modified>
  <cp:revision>5</cp:revision>
  <dc:subject/>
  <dc:title>Slide 1</dc:title>
</cp:coreProperties>
</file>